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ng Function and Disease</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ungs are soft, light, spongy, elastic organs that are responsible for aerating the blood. In humans each lung is encased in a thin membranous sac called the pleura, and each is connected with the trachea (windpipe) by its main bronchus (large air passageway) and with the heart by the pulmonary arteries. The basic function of the lungs is the gas exchange (oxygen and carbon dioxide) between the inhaled air and blood in the pulmonary circulation. Breathing becomes difficult, painful or impossible when the lungs are afflicted with disease. Most adults breathe in and out about 15 times per minute, taking in about a pint of air (0,47 l) each time. The air passes through the upper respiratory system and is warmed or cooled to body temperature, humidified and partially cleanse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u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he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ch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lmon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li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veol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e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l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morphological characteristics of the lu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basic function of the lu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we inha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at way does the body protect the lu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coughing, sneezing and swallowing reflexes clear a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chronic lung disea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leading cause of cancer deaths for both men and women in the United sta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smoking considered to be one of the causes of lung canc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symptoms of lung canc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course of treatment depend o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words opposite in meaning to the following words by adding certain prefixe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adjectives from the following noun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ch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yn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he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e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ur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veol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ryn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an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rite the following sentences in the Passive Voice:</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building three new hospitals in this town 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udents could use these scientific methods in their resear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scientists claim that smoking causes lung canc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llowed him enough money to perform his experi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tor will examine this patient immediate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ose experts have recognized his work as one of the b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was taking some tranquillizers the whole last wee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y had dressed his arm, the nurse brought in the penicillin.</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in the right word:</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river of the bus was.....................injured. (serious/serious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go along this path. It doesn’t look.................(safe/safe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fell and cut himself......................(bad/bad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as a...................change in her behaviour. (sudden/sudden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young man behaves very......................(selfish/selfish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she always feel.....................before examinations? (nervous/nervous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speaks English.....................although he has learned it only for two years. (fluent/fluen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ere ........................upset about failing this exam. (terrible/terribly)</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6"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ng disea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you keep your lungs healt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1T22:03:39Z</dcterms:modified>
  <cp:revision>21</cp:revision>
  <dc:subject/>
  <dc:title>Slide 1</dc:title>
</cp:coreProperties>
</file>